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14D-2CBC-43A0-96EA-13045D59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A07E-A050-4AD3-85FF-8D9AE2C9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E32D25-2427-414B-B8E0-6BDC5A670D5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B75527-F343-4C5E-95E1-CA62C2549F4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B21509-EA38-47DA-B8C0-E9AEA2C89AB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7BA3D8-E702-4C5C-BD8C-54A40EA715F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5ECB59-5CD2-4108-9FA4-CE8AC9AA8D0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F832EE-7329-4776-AD21-C39DDDDCFD7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3D4809-5530-4BFA-BA9C-AFD86DA10B0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2FF21D-F780-4956-8A25-D606826AF1B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9A1685-CBBE-46D2-AED0-6ABC34CE21C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A16-E6F4-4E41-9524-8CE53089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69BB-7FD9-4F0D-A824-52932EB1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96E-2EAA-4B34-B80F-336AD31E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62DEB-B031-4463-8980-92156EA407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FB3F6-A3FA-4F40-AA1B-641D2B17AD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2B186-F93E-4669-BFA1-2DF71C061C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03125-34D0-4455-932C-7372046D87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427A7-FAD2-4519-B145-D5386331E5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4D54-8B15-4CCA-8082-879EB04F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EA5BC-FA06-4FDA-85FD-F452296AFA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F4A74-BF0A-4E16-BC19-A444A34E95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F1721-29BC-4A2B-A035-FA4E06743E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DFE55-3E38-4857-BA56-805C2C6478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694B9-23E1-47E4-AA01-B882A736A3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93EEE-BC9D-4823-B2CF-98E6ACDE79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48D2E-C1DA-4BA5-ADF2-72EDE9E7D8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34F6C-F628-477B-A5C2-EBFE4FC0A24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7022C-0C75-4A77-A526-815C8CCEBC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ABB28-2273-4D05-A2EE-BB7A73F9B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CEBF-E81F-476F-9F26-8790A048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08CBC-4F8F-40B6-A665-21EA255EEB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139EA-EFE2-4E2F-A165-0AE904CCEF7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A0CD9-6121-4BAA-8906-21DF3414ECF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86DB3-615C-4B6A-A4D1-9EBDAAC8E2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6016E-B577-4754-829F-FAC522F077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896D1-A495-4B32-B6CD-D581CCC66B4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44930-01A4-4E9E-A146-0660D7D74D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D51B2-CFB5-4FF6-AC37-18A8686B1A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86DCD-EFC5-45E3-81E5-47208489BD8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D7D8-BE5A-4698-A71F-5F1A1542F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408C-15D1-4FAC-B24C-39ABD4F7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82F5-A7CA-470E-A2C1-407C655B2CD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56EF-F508-4DF5-AF5B-8F7414E959D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ED4D-E7C4-4C4B-882C-75CCEFC9B2D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7662-9A1D-4440-AA34-DDC0539819B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A08F-CAD2-44DF-ADEE-60AB05718A5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4382-8A5D-47AC-BA94-63CF4EFD22B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E69C-BD8B-47FE-8185-D75751A4829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08D4-1A44-4923-969E-9820AD0A380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0733-FF65-40C4-AF5B-D12F3BADD7C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55D9-DFDB-4FF3-A38B-1BC9E5B05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2DD-A90E-4FA3-A2D1-C881058F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7032-6C9E-4B28-A196-238B782CCE1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E2D6CA-EA14-4C6D-A3B9-793A083DCFE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A3903E-2D20-4CE8-B30E-C354985838C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8B6B9B-0581-41D1-A0C4-0DE5B67D11F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16DB7E-98E8-458A-9A38-1A6D5A00D79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D1DB7C-039E-41C3-92FA-D6396CB4D24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5C5152-003D-4E3E-AC50-C7B2150B9C0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23FA67-98AA-48C7-9E6D-A315D729406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FF35DD-DDDD-4253-8A2A-59A0F2FE0D2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034D93-C99A-4742-A79B-B003C23D6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79EC-3CA7-42F2-98A4-DF9627F1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88C467-7373-41CA-8B30-0585F25BE0A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DCDCE2-C3AE-44B9-A4FB-74BC601A658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50ED96-5A83-46F0-A2F8-B491FA7FA77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294BE6-BDAC-42C7-ACD7-C70906431B6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3A158F-B3E9-40B5-ABBD-3EA3CF92A8D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8CD29-EFE8-4C75-8A69-E29899135D6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90BB7-CAF2-4A0D-AB9F-CF6AAE4A16D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E7AF9-7474-4544-B6B1-FAF2CC73622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EB3401-84B1-4689-9D6D-30259B95785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A037AD-D0A6-4C85-9BFF-F3308E909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9C2B-5A51-4E3C-8C26-17679518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C5DF66-4E5D-440E-BF89-DF408F6057E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F828F7-F936-43CC-BC2D-A63BB21B8DC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17AA9-18FA-4015-9DE2-38BA1960474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D3BB1-BD71-4BC2-893C-428114701B1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367ED-BBDC-4B85-8E7D-5C27E3ECEAF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C4332-4EF9-4975-B8DC-EF31665A3E5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3F37D-6D1D-4AAE-BDC3-8296823273E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9D4CB-AEA8-44C7-9168-39FA12126B6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60F2B-D927-4091-8613-FD3E51A42CD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865BA-80D3-433F-9FC4-9F455DABB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A71F-4529-4010-8AC6-6FFE397F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2C5BC-2317-44BA-B677-1B3B68666DE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DF95E-C133-4818-9F04-9855CDE19FF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FE8C5-A9F8-447E-BCF7-53093377FF6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83855-C58D-42A9-8BE4-99989048030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23EDB-D898-4829-998A-DD31B10C51F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D7E04-4E93-4F65-9684-FAFA6FCD055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F58C4-718A-4121-8ADE-EA3B139F0F9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5BA63E-3DEA-417A-8671-3B188D65656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4C4D9A-1683-4B02-9915-50A25B37A93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FD6DB6-F108-487C-8892-50DF113F1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DCE0061-FAF9-49C6-A9AF-6224419923B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B166659-0FA2-42D8-9D59-42114B36F2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44F3326-550F-468E-8EC2-FF44D84F6AE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B729CCC-AB12-4D9B-AF90-01DADD55EB3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3DA345A-0D08-43BC-A810-E82271E6BBD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1631F3B-7E30-4542-BB62-F1DB12DB03D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7B0730F-2645-4BA8-864B-C628A1DCAAC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996EB8E-6840-48A5-87F9-D8D8CB1BEEB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B95C0F0-A826-4401-AF5E-8CCCE7C1206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aija.Bundule@lza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-era.net/joint-call-2016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9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–                       2016.gada projektu konkurs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projek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733040" y="1752120"/>
            <a:ext cx="695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mērķ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ordinēt “M.ERA-Net” projekta konsorcija dalībnieku sadarbību materiālzinātņu un inženierzinātņu jomā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uzdevum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pīgu projektu konkursu organizēša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darbības laiks: 1.03.2016.-28.02.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koordinators – Austrijas Zinātnes fonds (Austrij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atviju pārstāv Valsts izglītības attīstības aģentūra, kontaktpersonas:  Dr. Maija Bundule, tel. 67785423, e-pasts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Maija.Bundule@viaa.gov.lv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18C345C-256C-4CBB-B0E3-C8770EB99BD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Bild 1" descr=""/>
          <p:cNvPicPr/>
          <p:nvPr/>
        </p:nvPicPr>
        <p:blipFill>
          <a:blip r:embed="rId2"/>
          <a:stretch/>
        </p:blipFill>
        <p:spPr>
          <a:xfrm>
            <a:off x="730872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46400" y="380880"/>
            <a:ext cx="64404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projekta dalībnie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314000" y="1752120"/>
            <a:ext cx="73724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 Eiropas 41 zinātni finansējoša organizācija pārstāvot 23 Eiropas valst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aivānas Zinātnes un tehnoloģija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ievijas inovācij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ienvidkorejas pētniecīb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razīlijas Izglītības un zinātne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92A3553-60FB-4EBC-9884-014A7B5EA10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Bild 1" descr=""/>
          <p:cNvPicPr/>
          <p:nvPr/>
        </p:nvPicPr>
        <p:blipFill>
          <a:blip r:embed="rId1"/>
          <a:stretch/>
        </p:blipFill>
        <p:spPr>
          <a:xfrm>
            <a:off x="745488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776240" y="1752120"/>
            <a:ext cx="6910560" cy="3899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onkursa tematik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ted computational materials engineering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novative surfaces, coatings and interfac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igh performance synthetic and bio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ased composit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Functional material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rfaces between materials and biological hosts for health application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ls for additive manufactu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6D748AB-69D3-40DF-87D3-81F134FECB0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ild 1" descr=""/>
          <p:cNvPicPr/>
          <p:nvPr/>
        </p:nvPicPr>
        <p:blipFill>
          <a:blip r:embed="rId1"/>
          <a:stretch/>
        </p:blipFill>
        <p:spPr>
          <a:xfrm>
            <a:off x="7607160" y="3348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95440" y="380880"/>
            <a:ext cx="62913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34680" y="1684080"/>
            <a:ext cx="827388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Konkursam var iesniegt projektus ar īstenošanas ilgumu līdz trīs gad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a konsorcija minimālais sastāvs: trīs dalībnieki no vismaz divām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Informācija par konkursu atrodama projekta mājas lapā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www.m-era.net/joint-call-2016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Latvijas dalībnieki var plānot projekta izdevumus līdz 70 000 EUR/gadā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Partner</a:t>
            </a:r>
            <a:r>
              <a:rPr b="1" lang="lv-LV" sz="1900" spc="-1" strike="noStrike">
                <a:solidFill>
                  <a:srgbClr val="000000"/>
                </a:solidFill>
                <a:latin typeface="Verdana"/>
                <a:ea typeface="Verdana"/>
              </a:rPr>
              <a:t>u meklēšanas instrumenti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PTeAm3 piedāvā partneru meklēšanas instrumentu interneta vietnē  https://www.nmp-partnersearch.eu/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pas Uzņēmumu tīkla (EEN, </a:t>
            </a:r>
            <a:r>
              <a:rPr b="0" i="1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prise Europe Networ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erības vietne internetā http://een.ec.europa.eu/tools/services/SearchCenter/Search/ProfileSimpleSearch?shid=32db25cb-726f-43b0-8b5f-7742d0935799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66E3EA0-851D-4B3B-A3BC-1B912ECF259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Bild 1" descr=""/>
          <p:cNvPicPr/>
          <p:nvPr/>
        </p:nvPicPr>
        <p:blipFill>
          <a:blip r:embed="rId2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193760" y="1752120"/>
            <a:ext cx="74930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notiks divās kārtā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mājas lapa www.m-era.net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atvērts 2016.gada 15.mar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ideju iesniegšanas termiņš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016.gada 14.jūnij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lno projektu iesniegšanas termiņš – 2016.gada 10.novembri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ēmums par atbalstāmajiem projektiem  2017.gada 24.janvār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77EDFF3-4BDE-4DBF-8EB5-475679AFD30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Bild 1" descr=""/>
          <p:cNvPicPr/>
          <p:nvPr/>
        </p:nvPicPr>
        <p:blipFill>
          <a:blip r:embed="rId1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30:05Z</dcterms:modified>
  <cp:revision>17</cp:revision>
  <dc:subject/>
  <dc:title>PowerPoint Presentation</dc:title>
</cp:coreProperties>
</file>